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EAD-3547-43D4-B44B-FE05C8FB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934-7C5D-457E-9734-6050DC60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029B-F8A3-498F-9CD7-76D5A15C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B02-29D4-4586-A3C2-B9451710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C82-C992-4F54-890C-96B8767F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477-500B-46DA-AD0B-4BF85BF2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FDAF-02BF-4A61-8F53-3205AFE0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1E6-415F-48EC-849B-4C570270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09AB-F610-41AB-BCDA-3C410C40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842-5D3F-43AA-8F49-F0DEC2B9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F69-1584-430D-A679-07070748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8A0-86A4-4DC3-A5F1-8C34301F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CD76-D302-4CE8-856C-C287FF961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Something for the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57:39Z</dcterms:created>
  <dc:creator>cxoffice-XP</dc:creator>
  <dc:description/>
  <dc:language>en-US</dc:language>
  <cp:lastModifiedBy>cxoffice-XP</cp:lastModifiedBy>
  <dcterms:modified xsi:type="dcterms:W3CDTF">2006-11-10T14:58:15Z</dcterms:modified>
  <cp:revision>1</cp:revision>
  <dc:subject/>
  <dc:title>Do Something for the macro</dc:title>
</cp:coreProperties>
</file>